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8A3E-9C7D-459B-AAB9-693A2A981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2640" y="420336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3CD5-2629-416C-859F-4FC23B7F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0832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0367-CD8A-4A9D-A8B2-532E18CB2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324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4420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264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324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4420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E4D4-7D7C-452B-A11D-0F53918C5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C124-5545-4D31-88F6-081ACB9B1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28D6-7B88-4EE6-A157-BF3E97D9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2636-CD9B-4319-9DA6-66B3D5C5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DABC-DE1B-4D49-9E0D-088C7815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C9A7-FC7C-49ED-92ED-01B0E33D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95120" y="6094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1AF8-FB14-4A7B-96B5-C16917AB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C207-17C3-4B63-AAAD-9BEE17A0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C158-E61B-49D0-9F9B-64144EC4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0832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CD74-D860-4953-877C-26A7EBEF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F6F7-8894-4E4D-B06E-10DEBFCC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2640" y="420336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B82A-7204-4CA8-94C6-F581706D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0832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513D-F7AF-4874-BF06-B6FC66395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9324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420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264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9324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420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6984-D518-4925-8A96-B1F1C8ACD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4A01-458B-4E62-BAF2-C8BC0761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CE29-8F2D-4BB8-9741-5984D6E7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D7FC-7092-4FD2-BDD2-83057297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95120" y="6094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EAD5-B35D-4580-839A-CDDE4AA3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31AE-ADF2-4FD7-9684-0D738A2A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0832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C431-926E-4606-AAC1-1BAFFCF5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03E7-080C-47EB-8EB1-A66B4F81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5358-9B0D-489A-9DCE-45E56B11603D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19051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50A0-D539-40D4-9350-4063A1AF7D51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49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5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5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28800" y="19051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Solving Equation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828800" y="38098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Goal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: solve any degree one equa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Review of Terminology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erms: parts of equation that are added or subtracte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ike Terms: Terms with same form of the variable, and real numbe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Review of Terminology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 variable is a letter which represents an unknown number.  Any letter can be used as a variabl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n algebraic expression contains at least one variabl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amples:  a, x+5, 3y-4, etc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Review of Terminology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 verbal expression uses words to translate algebraic expression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ample: “The difference of 20 and x” represents 20-x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n equation is a sentence that states that two mathematical expressions are equal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ample:  2x -16 = 18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Solving Equation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mplify each side of the equation, if needed, by distributing or combining like term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ove variables to one side of the equation by using the opposite operation of addition or subtractio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dentify the operation(s) being done the the variabl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se the inverse operation(s) to isolate the variabl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heck your answer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19:30:57Z</dcterms:created>
  <dc:creator>PA Department of Education</dc:creator>
  <dc:description/>
  <dc:language>en-US</dc:language>
  <cp:lastModifiedBy>Parkland High School</cp:lastModifiedBy>
  <dcterms:modified xsi:type="dcterms:W3CDTF">2010-09-20T13:09:52Z</dcterms:modified>
  <cp:revision>6</cp:revision>
  <dc:subject/>
  <dc:title>Unit 1 Section 1.4 Solving Equations</dc:title>
</cp:coreProperties>
</file>